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2.pct" ContentType="image/x-pict"/>
  <Override PartName="/ppt/media/image14.png" ContentType="image/png"/>
  <Override PartName="/ppt/media/image1.pct" ContentType="image/x-pict"/>
  <Override PartName="/ppt/media/image4.png" ContentType="image/png"/>
  <Override PartName="/ppt/media/image9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BC9C-BEEE-4219-BD88-C98DB9CC9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F0E-9FD4-446A-880A-B51C21DF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B9D4-14BA-4452-968D-8A62192A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5F23-2EBE-43D3-85D2-E76D97BC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987F-5181-43DA-83DA-A31A475B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74D-9F4A-48EE-9DC6-C9E3D3E8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3AB-ACA1-4ED6-82B5-34EFA49B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3B80-3F54-4767-9E9A-309822ED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7152-4EB3-4ED5-863A-9D90F35B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39D-7216-4245-A444-365E7A79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8F-E62A-4EC2-8630-A7E7707A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D982-EF03-42A3-A873-41D6BA54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3BB5-24FA-4369-9FC9-783655755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554040" y="457200"/>
            <a:ext cx="10239840" cy="24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Internet Analysis Tools Registr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IATR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Public Resource for Image Analysis Too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 Instance of an Ontology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33960"/>
            <a:ext cx="776160" cy="824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359920" y="5956200"/>
            <a:ext cx="772920" cy="901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59280" y="4309920"/>
            <a:ext cx="9934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enter for Morphometric Analysis, MGH/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thinoula A. Martinos Center for Biomedical Imaging, HST/MGH/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83520" y="31384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vid N. Kenne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39120" y="5961240"/>
            <a:ext cx="745920" cy="896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700680" y="5964120"/>
            <a:ext cx="765360" cy="89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508720" y="6014880"/>
            <a:ext cx="1119240" cy="843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rcRect l="0" t="0" r="88677" b="0"/>
          <a:stretch/>
        </p:blipFill>
        <p:spPr>
          <a:xfrm>
            <a:off x="849240" y="6012000"/>
            <a:ext cx="703440" cy="84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rcRect l="0" t="0" r="73335" b="0"/>
          <a:stretch/>
        </p:blipFill>
        <p:spPr>
          <a:xfrm>
            <a:off x="2997360" y="5954760"/>
            <a:ext cx="2438280" cy="903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625760" y="5904000"/>
            <a:ext cx="129852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2968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2080" y="1299960"/>
            <a:ext cx="879156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(ImageFeature)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Entity created_by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rvation (or Finding) created by Analysis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diologicalRead instance_of Analysis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00" y="11509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2720" y="1106640"/>
            <a:ext cx="8458200" cy="57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instance_of 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WH instance_of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sualization instance_of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CBC_NA-MIC instance_of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 instance_of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Slicer has_function Visual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creator BW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funding NCBC_NA-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operating_system Lin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00" y="89532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1941480" y="0"/>
            <a:ext cx="7202520" cy="678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22400" y="0"/>
            <a:ext cx="7237440" cy="6815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76320" y="0"/>
            <a:ext cx="7267680" cy="684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9200" y="20988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95400" y="0"/>
            <a:ext cx="7248600" cy="6827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400" y="49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posed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ool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scriptio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Hierarch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0003"/>
          <a:stretch/>
        </p:blipFill>
        <p:spPr>
          <a:xfrm>
            <a:off x="1930320" y="0"/>
            <a:ext cx="7213680" cy="135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w What??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V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ion w/ Other Effor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iance/Usability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00" y="14796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7080" y="1015560"/>
            <a:ext cx="7867440" cy="48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raft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ntolog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From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ubi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sen,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inov, </a:t>
            </a:r>
            <a:br>
              <a:rPr sz="2800"/>
            </a:br>
            <a:r>
              <a:rPr b="0" i="1" lang="en-US" sz="2800" spc="-1" strike="noStrike">
                <a:solidFill>
                  <a:srgbClr val="ffff00"/>
                </a:solidFill>
                <a:latin typeface="Times New Roman"/>
              </a:rPr>
              <a:t>et al.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f th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DIW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7238880" cy="68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1606680"/>
            <a:ext cx="7804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TR Website Revie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isting Tool ‘Proto-Ontology’ (i.e. keyword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d Expanded Tool Ont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what??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1760" y="4933800"/>
            <a:ext cx="8339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cc"/>
                </a:solidFill>
                <a:latin typeface="Times New Roman"/>
              </a:rPr>
              <a:t>See also: Kennedy &amp; Haselgrove, The Internet Analysis Tools Registry: A Public Resource for Image Analysis, Neuroinformatics, In Press, 2006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-1005480" y="5745240"/>
            <a:ext cx="1115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e Preprint a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na-mic.org/Wiki/index.php/SDIWG:NCBC_Software_Classification#IAT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280520" y="0"/>
            <a:ext cx="658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ATR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ttp://www.cma.mgh.harvard.edu/iat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9200" y="9399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2960" y="1012680"/>
            <a:ext cx="6043680" cy="569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250920" y="311040"/>
            <a:ext cx="21924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AT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o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896760"/>
            <a:ext cx="21668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63800" y="4680"/>
            <a:ext cx="7180200" cy="6853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64008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6172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5029200"/>
            <a:ext cx="4572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405720" y="3429000"/>
            <a:ext cx="27867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ssu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eeping up to dat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plication Lis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ta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UR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latfor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ATR Schem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4880" y="1136520"/>
            <a:ext cx="8215560" cy="54514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9200" y="92376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9200" y="165420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3760" y="41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ol Description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ramewor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641760" y="0"/>
            <a:ext cx="55022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urrent System-Supplied Tool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Functio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Keywor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26600" y="1052640"/>
            <a:ext cx="8371080" cy="50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la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livers an atlas or supports atlas-bas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retation of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nction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functional image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croscopy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analysis of microscopy im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r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image regist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face analysis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urface-based analys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stical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tatistical inference and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gment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segmentation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vides a significant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olume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tool that provides volumetric analys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rping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s warping spatial transform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9200" y="8128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9200" y="176544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4360" y="471240"/>
            <a:ext cx="77724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ol Function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eyword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rcRect l="121878" t="0" r="138412" b="0"/>
          <a:stretch/>
        </p:blipFill>
        <p:spPr>
          <a:xfrm>
            <a:off x="3895560" y="0"/>
            <a:ext cx="52484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823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wards a Software Tool Ontolog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996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age is_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instance_of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created_fro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m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Image created_by </a:t>
            </a: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99cc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cc"/>
                </a:solidFill>
                <a:latin typeface="Times New Roman"/>
              </a:rPr>
              <a:t>SoftwareToo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has_a tool_cre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tool_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operating_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_a funding_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200" y="1257480"/>
            <a:ext cx="90648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1T13:17:43Z</dcterms:created>
  <dc:creator>David Kennedy</dc:creator>
  <dc:description/>
  <dc:language>en-US</dc:language>
  <cp:lastModifiedBy>David Kennedy</cp:lastModifiedBy>
  <dcterms:modified xsi:type="dcterms:W3CDTF">2006-03-25T22:17:45Z</dcterms:modified>
  <cp:revision>133</cp:revision>
  <dc:subject/>
  <dc:title>No Slide Title</dc:title>
</cp:coreProperties>
</file>